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7600" y="1098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9872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1440" y="1521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1160" y="15210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1447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990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438280"/>
            <a:ext cx="9009360" cy="1052640"/>
            <a:chOff x="0" y="2438280"/>
            <a:chExt cx="900936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4080" y="296856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6080" y="3260880"/>
              <a:ext cx="869328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18288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The Chaotic Pendulum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ath333 Tutorial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0-3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 order to obtain a good picture, there are several things we have to no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 drop first several periods before printing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 have to map all those data to the range (0,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t least few hundreds of points should be plo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o plot a smaller point in the MATLAB environment, w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gt;&gt; set(gcf,'DefaultLineMarkerSize',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ere #=1,…,6. Smaller the number, smaller the point. (1: finest dot, 6: 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ccurate solution is required. Better to use double precision instead of single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Technical point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How to check whether the time is t=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/w (if w=2/3, then t=3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) or no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oblem: If you use the command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(mod(t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.eq.0) th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gram works or not will then depends on the value dt you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1: dt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/m, where m=10,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2: not to use the previous command mod(), but instead, the programmer calculate the number of step required to meet the particular time. If dt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/10, the you printout the solution every 30 time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Technical point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How to repres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1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=3.1415926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2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=4*atan(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3. Spectrum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stead of studying the solution in the phase space, we will study it i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requency sp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by using the algorithm of FF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ouri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ansfor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olution we obtained befor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, is the solution in the real space, as a function of re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ransformed solu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, is the solution in the frequency space, as a function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 , the wave frequen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1187280" cy="782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079640" cy="723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09880" y="5181480"/>
            <a:ext cx="5461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y expanding the func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y Fourier Transform, 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emind you tha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is the same solution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but represented in the frequency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784680" cy="138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376880" cy="1382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038480" y="34290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733920" y="4724280"/>
            <a:ext cx="1079640" cy="72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48320" y="4114800"/>
            <a:ext cx="1187280" cy="782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10796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f the frequencies are discretized, integration will be replaced by sum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ut in computation, we can’t duel with infinity. Therefore, the high frequency modes are trunc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517920" cy="1417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36972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Fourier Spectrum function S(w)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n, the spectrum is the figure of  S(w) vs. w of th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6420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dulum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 q=4, g=3/2 and w=2/3 for chaotic pendul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1088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00200" y="5638680"/>
            <a:ext cx="7010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trum for the pendulum with q=1e10, g=0, dt=0.1 and N=2^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63468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447920" y="5562720"/>
            <a:ext cx="7162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trum for the pendulum with q=4, g=3/2, w=2/3, dt=0.01 and N=2^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33744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182600" y="2017800"/>
            <a:ext cx="7772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roadband power spectrum is an indication of chaos. The reason is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ach peak in the spectrum represents that particular frequency contributes to the solution in the rea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ore the peak, more interactions between more frequencies, and this makes the solution in the real space oscillates more viol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obtain a good figure, we have to remember the following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t least several periods, for periodic motion, have to be included in the input data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irst several periods will be dropped because the motion is still not stea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1136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9320" y="182880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gram for FFT using MATLAB will be provided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ublic_html/tutorial5/spectrum.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file u.dat should provide the time series data for the pend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 represents the number of data, should be in the form of n=2^p, where p=17 or 18 i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t represents delta t you used in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data in the sam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should be evenly spread, i.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27600" y="2743200"/>
            <a:ext cx="1143000" cy="833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90920" y="4343400"/>
            <a:ext cx="4356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Phas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lot the solution in the for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f the system is periodic, the curve in phase space will attracted to “a point” or “a closed curve”. We call it 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02120" y="2514600"/>
            <a:ext cx="2244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472080" cy="518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86728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7400" y="5029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t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19520" y="4724280"/>
            <a:ext cx="30456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93920" y="304920"/>
            <a:ext cx="6848640" cy="5675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219320" y="5562720"/>
            <a:ext cx="71629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ut, for a chaotic pendulum, we can’t see any attractor in the phas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2. Poincare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6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re is no need to plot every solution we ob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f the motion is period one ( period of the motion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/ w, where w= frequency of the driving force), then we want only one point in the phas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58039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refore, in general, we 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 points in the phase space represents a periodic motion with period= 2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/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at means, to obtain the Poincare Section, we plot thos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/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o, for the chaotic pendulum we are studying, w=2/3. This means we plot th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/(2/3)=3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, for n=1,2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figure we obtain for the chaotic pendulum will sometime be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range 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0992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ung Shing Yu</dc:creator>
  <dc:description/>
  <dc:language>en-US</dc:language>
  <cp:lastModifiedBy>Leung Shing Yu</cp:lastModifiedBy>
  <cp:revision>0</cp:revision>
  <dc:subject/>
  <dc:title>The Chaotic Pendulum System</dc:title>
</cp:coreProperties>
</file>