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B7B-9E2B-4697-9B32-A93AEF8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D4F-6671-4D87-B07C-377A9A8D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34C-99F4-4C46-930D-6F1E172D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725-531D-4A81-8E0C-2A50E393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3193-898F-4F48-A050-53B7E256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B173-CA27-429D-9603-1E542818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AF80-38BA-4929-8FC0-4CD7453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ACE3-CB9F-4454-A0D6-8825632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3DD-59FA-4703-8B8F-8F160FC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387B-1DDD-4F76-868E-65E78778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DCCE-4FEE-41FF-8D47-4EF0273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CEB-B7A4-48A2-9C14-3930921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F769-D2A9-4D37-9A62-0948AD62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921B-9204-4EB3-90FD-737D963E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EB75-08EB-4CCC-AFF3-91B0887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E33E-C0A4-4462-BBA2-68A534A6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08EB-3BFE-4EFE-BF78-C11E0264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C0F-F0E7-460D-8674-D826AF48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4E1-6843-46CF-A55C-E3466D07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5F3-62DC-454C-AA91-0F1E3E4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347-D5C5-4B23-8DE8-950AB0AB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288-2C3B-49DB-B09B-EA5DD85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27D-DFB9-4773-A0D2-A149258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06F-98E0-446F-8DF6-257421D6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55E4-CA5A-477F-95D6-53C973668B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0F59-9CE5-4645-9FD5-EF939B4603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haotic Pendulum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333 Tutorial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-3-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obtain a good picture, there are several things we have to no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 dro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several periods before printing th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to map all those data to the range (0,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few hundreds of points should be plo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lot a smaller point in the MATLAB environment, w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 set(gcf,'DefaultLineMarkerSize',#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#=1,…,6. Smaller the number, smaller the point. (1: finest dot, 6: defau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te solution is required. Better to use double precision instead of single prec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al point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heck whether the time is t=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/w (if w=2/3, then t=3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or not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: If you use the command lik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(mod(t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.eq.0) the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works or not will then depends on the value dt you cho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1: dt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/m, where m=10, s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2: not to use the previous command mod(), but instead, the programmer calculate the number of step required to meet the particular time. If dt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/10, the you printout the solution every 30 time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al point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repres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1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=3.14159265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2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=4*atan(1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Spectrum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studying the solution in the phase space, we will study it i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quency sp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using the algorithm of FF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i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sfor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 we obtained befor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, is the solution in the real space, as a function of real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ed solu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, is the solution in the frequency space, as a function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, the wave frequenc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715000" y="4038480"/>
                <a:ext cx="1174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858000" y="19810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809880" y="5181480"/>
                <a:ext cx="5335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expanding the func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Fourier Transform, we 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ind you tha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same solution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but represented in the frequency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0880" y="2971800"/>
                <a:ext cx="37720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2895480"/>
                <a:ext cx="43639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038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47242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48320" y="4114800"/>
                <a:ext cx="1174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477120" y="19810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frequencies are discretized, integration will be replaced by summ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in computation, we can’t duel with infinity. Therefore, the high frequency modes are trunca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504960" cy="14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29200" y="5448240"/>
                <a:ext cx="36846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urier Spectrum function S(w) is 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, the spectrum is the figure of  S(w) vs. w of the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47920" y="2895480"/>
                <a:ext cx="6629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ulum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q=4, g=3/2 and w=2/3 for chaotic pendul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76520" y="2743200"/>
                <a:ext cx="6095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5638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um for the pendulum with q=1e10, g=0, dt=0.1 and N=2^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igure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00200" y="762120"/>
            <a:ext cx="6334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5562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trum for the pendulum with q=4, g=3/2, w=2/3, dt=0.01 and N=2^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igure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52480" y="457200"/>
            <a:ext cx="6324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band power spectrum is an indication of chaos. The reason is th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eak in the spectrum represents that particular frequency contributes to the solution in the real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e peak, more interactions between more frequencies, and this makes the solution in the real space oscillates more viol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obtain a good figure, we have to remember the following thing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several periods, for periodic motion, have to be included in the input data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several periods will be dropped because the motion is still not stea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95480" y="3886200"/>
                <a:ext cx="112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gram for FFT using MATLAB will be provided to yo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_html/tutorial5/spectrum.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le u.dat should provide the time series data for the pendulu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represents the number of data, should be in the form of n=2^p, where p=17 or 18 in gen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 represents delta t you used in the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in the sam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hould be evenly spread, i.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727600" y="2743200"/>
                <a:ext cx="1130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90920" y="4343400"/>
                <a:ext cx="4343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Δt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for constant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 the solution in the form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system is periodic, the curve in phase space will attracted to “a point” or “a closed curve”. We call it 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102120" y="2514600"/>
                <a:ext cx="22320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igure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00200" y="838080"/>
            <a:ext cx="6459480" cy="5175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672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5029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igure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93920" y="304920"/>
            <a:ext cx="6835680" cy="56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55627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, for a chaotic pendulum, we can’t see any attractor in the phas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Poincare S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need to plot every solution we obt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motion is period one ( period of the motion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/ w, where w= frequency of the driving force), then we want only one point in the phase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438280" y="2590920"/>
                <a:ext cx="579132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n general, we wa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points in the phase space represents a periodic motion with period= 2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means, to obtain the Poincare Section, we plot thos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for the chaotic pendulum we are studying, w=2/3. This means we plot th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2/3)=3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, for n=1,2,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gure we obtain for the chaotic pendulum will sometime be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nge 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oincaresection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523880" y="838080"/>
            <a:ext cx="708660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7:53:28Z</dcterms:created>
  <dc:creator>Leung Shing Yu</dc:creator>
  <dc:description/>
  <dc:language>en-US</dc:language>
  <cp:lastModifiedBy>Leung Shing Yu</cp:lastModifiedBy>
  <dcterms:modified xsi:type="dcterms:W3CDTF">2000-03-09T23:15:45Z</dcterms:modified>
  <cp:revision>6</cp:revision>
  <dc:subject/>
  <dc:title>The Chaotic Pendulum System</dc:title>
</cp:coreProperties>
</file>