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4F64-299D-4B29-9515-41F4BC23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AAF-6CE4-4805-BE5D-2489D733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BF7B-47D5-4D69-A6E7-7DA0FEA3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AA6A-C4BD-4746-BBC8-C224A907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2865-F394-4937-91C3-72358448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7F27-06EA-4339-963E-4259ABE0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4C09-BE30-48D5-880B-AD34C1FA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6015-6FD0-4363-B265-68BBB20D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BC69-42D9-482D-A864-100FAD4E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A281-3CDF-4522-9CCB-26831118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6991-AA02-4507-8199-A48ACC50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CD5D-7B4C-406F-B38D-DD6F72D3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0477-990C-4DB0-A685-E5186736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42F8-D530-40A8-80A5-7E0FEFF3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5027-8A6A-477C-9E7D-A2FBAEFE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6FE3-C176-49AA-9A1A-96014C1A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E848-5399-408E-8DD7-6865B551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BFB-B275-4584-B5BC-E09DFB51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44E-A4EE-41E6-9AD9-7C3B8607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136-7F7F-4C2A-ABE4-161637CB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8F69-9F4F-411F-91E3-F45C62F1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DAE0-8813-48B0-8ABD-3AD56522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9D5-960E-4964-85AF-7BD13618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22F-1E91-49E3-B521-6B93296B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0E27-581A-4F84-96E9-92978403BE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1706-930F-42C9-8D30-A90C9D3DDA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8284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haotic Pendulum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333 Tutorial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-3-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obtain a good picture, there are several things we have to no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e dro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several periods before printing the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have to map all those data to the range (0,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few hundreds of points should be plot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plot a smaller point in the MATLAB environment, we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&gt; set(gcf,'DefaultLineMarkerSize',#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#=1,…,6. Smaller the number, smaller the point. (1: finest dot, 6: defau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te solution is required. Better to use double precision instead of single preci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chnical point 1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check whether the time is t=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/w (if w=2/3, then t=3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or not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blem: If you use the command lik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(mod(t,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.eq.0) then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works or not will then depends on the value dt you choi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1: dt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/m, where m=10, sa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2: not to use the previous command mod(), but instead, the programmer calculate the number of step required to meet the particular time. If dt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/10, the you printout the solution every 30 time ste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chnical point 2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represen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1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=3.14159265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2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=4*atan(1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Spectrum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ead of studying the solution in the phase space, we will study it in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requency spa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using the algorithm of FFT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i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nsfor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ution we obtained before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, is the solution in the real space, as a function of real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ed solution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, is the solution in the frequency space, as a function o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, the wave frequency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715000" y="4038480"/>
                <a:ext cx="11746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858000" y="1981080"/>
                <a:ext cx="10666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809880" y="5181480"/>
                <a:ext cx="53352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expanding the funct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Fourier Transform, we 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ind you tha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same solution of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but represented in the frequency sp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80880" y="2971800"/>
                <a:ext cx="377208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ωt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572000" y="2895480"/>
                <a:ext cx="436392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40384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733920" y="4724280"/>
                <a:ext cx="10666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648320" y="4114800"/>
                <a:ext cx="11746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477120" y="1981080"/>
                <a:ext cx="10666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frequencies are discretized, integration will be replaced by summ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in computation, we can’t duel with infinity. Therefore, the high frequency modes are truncat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3504960" cy="1405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029200" y="5448240"/>
                <a:ext cx="36846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i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urier Spectrum function S(w) is 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, the spectrum is the figure of  S(w) vs. w of the mo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447920" y="2895480"/>
                <a:ext cx="66294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ulum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q=4, g=3/2 and w=2/3 for chaotic pendulu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76520" y="2743200"/>
                <a:ext cx="609588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00200" y="56386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trum for the pendulum with q=1e10, g=0, dt=0.1 and N=2^1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figure3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00200" y="762120"/>
            <a:ext cx="63342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55627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pectrum for the pendulum with q=4, g=3/2, w=2/3, dt=0.01 and N=2^1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figure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752480" y="457200"/>
            <a:ext cx="63248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adband power spectrum is an indication of chaos. The reason is th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eak in the spectrum represents that particular frequency contributes to the solution in the real sp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e peak, more interactions between more frequencies, and this makes the solution in the real space oscillates more violent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obtain a good figure, we have to remember the following thing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several periods, for periodic motion, have to be included in the input data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several periods will be dropped because the motion is still not stea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895480" y="3886200"/>
                <a:ext cx="1123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ogram for FFT using MATLAB will be provided to yo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_html/tutorial5/spectrum.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ile u.dat should provide the time series data for the pendulu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represents the number of data, should be in the form of n=2^p, where p=17 or 18 in gener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 represents delta t you used in the progr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in the sam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should be evenly spread, i.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727600" y="2743200"/>
                <a:ext cx="11304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590920" y="4343400"/>
                <a:ext cx="4343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Δt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for constant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as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ot the solution in the form o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system is periodic, the curve in phase space will attracted to “a point” or “a closed curve”. We call it a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tract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102120" y="2514600"/>
                <a:ext cx="223200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t xml:space="preserve">θ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figure1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00200" y="838080"/>
            <a:ext cx="6459480" cy="5175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867280" y="3124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5029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r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819520" y="472392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figure2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93920" y="304920"/>
            <a:ext cx="6835680" cy="5662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19320" y="55627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, for a chaotic pendulum, we can’t see any attractor in the phase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Poincare S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no need to plot every solution we obta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motion is period one ( period of the motion= 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/ w, where w= frequency of the driving force), then we want only one point in the phase sp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438280" y="2590920"/>
                <a:ext cx="579132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Δ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fore, in general, we wa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points in the phase space represents a periodic motion with period= 2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w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means, to obtain the Poincare Section, we plot those solution at t=2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, for the chaotic pendulum we are studying, w=2/3. This means we plot the solution at t=2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2/3)=3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, for n=1,2,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igure we obtain for the chaotic pendulum will sometime be calle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range Attract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oincaresection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523880" y="838080"/>
            <a:ext cx="7086600" cy="56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07:53:28Z</dcterms:created>
  <dc:creator>Leung Shing Yu</dc:creator>
  <dc:description/>
  <dc:language>en-US</dc:language>
  <cp:lastModifiedBy>Leung Shing Yu</cp:lastModifiedBy>
  <dcterms:modified xsi:type="dcterms:W3CDTF">2000-03-09T23:15:31Z</dcterms:modified>
  <cp:revision>6</cp:revision>
  <dc:subject/>
  <dc:title>The Chaotic Pendulum System</dc:title>
</cp:coreProperties>
</file>