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E94-9ABD-45F9-8F0D-6F973D78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EDF-45AA-4172-8A74-4C26E7ED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50B-8EE7-4187-A6AC-07DF3FD3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608-4ED8-4255-8F2C-C8413BD6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E0D4-59B8-4B0F-AB4A-13ADC295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4717-555E-4A8E-BB95-B422A804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CF0F-FA32-429E-AD0A-D7346F08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C339-C077-4021-B2D6-B83E6F58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FAF9-0B9A-4347-A5D7-B17104C0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2E7E-9179-4CF7-95EE-A236EEBB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C696-11F8-4E94-B578-9CC1EB3C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A91-CD6F-419E-8C1C-013820CD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87C2-B65D-4563-8C52-8FAE02A5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7074-85E2-46F2-9566-2EF796FC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22FF-C76C-4FC2-844F-3502061D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D957-7E43-486B-B572-3536433E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C02A-AEEA-443C-8123-2C8D3FE0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5B4-9DA9-46C5-AABC-10BE3427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C5C-C63E-4F36-A8DA-12A5712C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2D6-A6E5-40BE-A5EF-11A968D5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95B-307C-4BE3-A35E-A91AA198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F15-D333-4CF1-BEEE-535FEA06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7F0-71C8-4EC4-9CD8-8095D352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C69-7ACF-4DC0-8FDA-46905C01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E8B4-E8A3-4717-9411-2D1DE4270B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5CE6-86EA-4928-B7F1-578DDD6CD3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haotic Pendulum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333 Tutorial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-3-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oincaresection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523880" y="838080"/>
            <a:ext cx="708660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obtain a good picture, there are several things we have to no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 dro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several periods before printing th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to map all those data to the range (0,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or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few hundreds of points should be plot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lot a smaller point in the MATLAB environment, w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&gt; set(gcf,'DefaultLineMarkerSize',#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#=1,…,6. Smaller the number, smaller the point. (1: finest dot, 6: defau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te solution is required. Better to use double precision instead of single pre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Spectrum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studying the solution in the phase space, we will studying it i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equency sp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using the algorithm of FFT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i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sfor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 we obtained before: f(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 in frequency spa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expanding the function f(t) by Fourier Transform, we 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same solution represents in the frequency sp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urier Spectrum function S(w) is 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, the spectrum is the figure of  S(w) vs. 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00200" y="5638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rum for the pendulum with q=1e10, g=0, dt=0.1 and N=2^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figure3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00200" y="762120"/>
            <a:ext cx="63342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5562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ctrum for the pendulum with q=4, g=0, dt=0.01 and N=2^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figure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52480" y="457200"/>
            <a:ext cx="63248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obtain a good figure, we have to remember the following thing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several periods, for periodic motion, have to be included in the input data, f(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several periods will be dropped because the motion is still not stea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gram for FFT using MATLAB will be provided to yo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_html/tutorial5/spectrum.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le u.dat should provide the time series data for the pendulu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represents the number of data, should be in the form of n=2^p, where p=17 or 18 in gene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 represent delta t you used in the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ulum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q=4, g=3/2 and w=2/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ot the solution in the form o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system is periodic, the curve in phase space will attracted to “a point” or “a closed curve”. We call it 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trac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igure1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00200" y="838080"/>
            <a:ext cx="6459480" cy="5175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867280" y="3124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029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, for a chaotic pendulum, we can’t see any attractor in the phase sp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igure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447920" y="762120"/>
            <a:ext cx="68356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Poincare S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need to plot every solution we obt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motion is period one ( period of the motion=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/ w, where w= frequency of the driving force), then we want only one point in the phase sp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in general, we wa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points in the phase space represents a periodic motion with period= 2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means, to obtain the Poincare Section, we plot those solution at t=2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for the chaotic pendulum we are studying, w=2/3. This means we plot the solution at t=2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2/3)=3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, for n=1,2,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gure we obtain for the chaotic pendulum will sometime be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ange Attrac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7:53:28Z</dcterms:created>
  <dc:creator>Leung Shing Yu</dc:creator>
  <dc:description/>
  <dc:language>en-US</dc:language>
  <cp:lastModifiedBy>Leung Shing Yu</cp:lastModifiedBy>
  <dcterms:modified xsi:type="dcterms:W3CDTF">2000-03-07T10:01:36Z</dcterms:modified>
  <cp:revision>1</cp:revision>
  <dc:subject/>
  <dc:title>The Chaotic Pendulum System</dc:title>
</cp:coreProperties>
</file>