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97E-6468-46A4-B564-5FDC899D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4F6-473F-4A39-9C3E-67C6E545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98D-0C8F-46E7-BCF3-B4B4B109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5C81-0723-48D9-9356-875C570C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E738-82E3-4897-8C54-5F09C43B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70E2-EF40-45E1-B257-B8F9AA02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DDCC-DA9B-4054-9CEF-4B39BC67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956B-21E7-470A-A71E-29C9400A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B5D3-9A6F-42DD-A2FB-79F0E6E0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8199-2104-493E-BEA1-C0139FCB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8F31-8FEB-4095-A4D0-A652E93B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BFA-F6EE-4249-B6C6-30BED990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5BC5-2B2F-4009-BD38-DD6DBD45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8A82-0F29-4BAB-9E42-CFD8F803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F432-DFD7-4FE6-9DA0-A28C9CF4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DF70-0490-4B19-821C-0C555A41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E3F1-8BB6-4061-B811-D7FE6E66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DBF-2893-4C50-B6DF-307FF527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6C5-1C94-48F9-A7E4-19B94325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69E-3FD9-4CD4-BEEC-455AEE71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380-5DD6-45BC-87BF-C91C5B54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FB1-2CA6-4E34-994D-2C95F0F3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7AD-416C-41D5-AA00-36C4D070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ADF-8E69-4567-954A-A94E8AE9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18FF-F9E3-4268-AFF9-8FDE68849F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454A-7014-441D-8DAC-81AA470613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y of Chaotic System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nsitive to Initial Cond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ggested Solution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 1 in Tutorial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furcation of Logistic 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 333 Tutorial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-3-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tic Map can be used to model the population of an organism with x represents the frequency of a spe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33720" y="3809880"/>
                <a:ext cx="47037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371600" y="5105520"/>
                <a:ext cx="66294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ome parameter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parame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would depends on the living environment of the species, the supply of food or the life time of the organ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ing the frequency of the species for the generation n, we can obtain the frequency of it in the next 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495680" y="2057400"/>
                <a:ext cx="5684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, the frequency of the next generation can be calculated to 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057400" y="2666880"/>
                <a:ext cx="50212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873000" y="4976640"/>
                <a:ext cx="739008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7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figure1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19320" y="1143000"/>
            <a:ext cx="6153120" cy="4592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42900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33520" y="2819520"/>
                <a:ext cx="5619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352680" y="533520"/>
                <a:ext cx="1454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flipH="1">
            <a:off x="700992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2438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2666880"/>
            <a:ext cx="175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ay the population is attracted to the fixed 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315200" y="4419720"/>
                <a:ext cx="14223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figure2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867640" cy="4737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114800" y="5867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990720" y="2971800"/>
                <a:ext cx="741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733920" y="533520"/>
                <a:ext cx="1619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 flipH="1">
            <a:off x="746748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91520" y="2819520"/>
            <a:ext cx="175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pulation is attracted to 0.5 here w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372440" y="4572000"/>
                <a:ext cx="13906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h of the above motions are called Period 1 motion, because there are only 1 attraction poi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he analysis done in the lecture time by Dr. Chasnov, we can see that Period 1 motion can be found w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95480" y="5181480"/>
                <a:ext cx="2590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, if we increase the value 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to 3.2, we expected to obtain a Period 2 mo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me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467480" y="2057400"/>
                <a:ext cx="6382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886200" y="3962520"/>
                <a:ext cx="203832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523880" y="48006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n is large en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figure3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472360" cy="4559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24080" y="5867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066680" y="2971800"/>
                <a:ext cx="6811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48120" y="685800"/>
                <a:ext cx="16002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 flipH="1">
            <a:off x="693396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933960" y="3733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286000" y="220968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286000" y="37339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similar to the analysis of the pendulum motion where the first several periods will not be considered, because the motion is still not “steady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further increase the value o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, we see period of the motion doubled. We call this phenomena “Period doubl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76520" y="4495680"/>
                <a:ext cx="6379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way to see the property of sensitive to initial condition of the chaotic pendulum system, we can see where is the pendulum in the phase space after a fixed time for a number of initial condi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figure4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4560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65760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71600" y="3124080"/>
                <a:ext cx="5634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581280" y="685800"/>
                <a:ext cx="1460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3429000" y="449568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388620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236232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213372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23852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238520" y="2133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723852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23852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furcation 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, we collect all those period points for correspo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29200" y="2590920"/>
                <a:ext cx="498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219320" y="3048120"/>
                <a:ext cx="498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038480" y="3048120"/>
                <a:ext cx="478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066680" y="3662280"/>
            <a:ext cx="7162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.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799455, 0.51304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382815, 0.826937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00893, 0.874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we re-fine the mesh by decreasing the difference between 2 values of   and plot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the pla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get is the bifurcation diagram of the Logistic Ma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8001000" y="2590920"/>
                <a:ext cx="498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29000" y="3657600"/>
                <a:ext cx="1994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s 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figure5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807160" cy="4818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91120" y="5715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724280" y="5638680"/>
                <a:ext cx="563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371600" y="2743200"/>
                <a:ext cx="5634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ember that we have mentioned that the period of the motion is doubling. This means the period of the periodic points will increase from 1 to 2 to 4 to 8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if we look closer to the range near 3.8, we will see a period 3 motion appears suddenly, from no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figure6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400800" cy="5267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724280" y="5791320"/>
                <a:ext cx="493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066680" y="2971800"/>
                <a:ext cx="5637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figure7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5835600" cy="5084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371600" y="2743200"/>
                <a:ext cx="5634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800600" y="5562720"/>
                <a:ext cx="493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, T.Y and Yorke, J.A.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eriod Three Implies Chaos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erican Mathematical Monthly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8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985-99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dea of a theorem mentioned in the paper is that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f period 3 motion is found in a dynamical system, a motion for any period also exi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chnical Point 1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have to do in order to get a pretty pictu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Remember not to use a large number of initial points, which represents the non-steady motion of the dynami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Difference between tw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has to be small in order to eliminate the gaps in the dia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324480" y="4495680"/>
                <a:ext cx="4986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chnical Point 2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I know the number of points to be written out for a particula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how do I know I have to write 4 points wh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swer for both of the questions is: No, you don’t have to worry about that, let the computer do it for 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010280" y="2514600"/>
                <a:ext cx="6382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410080" y="3505320"/>
                <a:ext cx="19051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44197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114800" y="22860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400800" y="4495680"/>
                <a:ext cx="4986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29000" y="2133720"/>
                <a:ext cx="498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2819520" y="3200400"/>
            <a:ext cx="25905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886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3200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715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56386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495680" y="1905120"/>
                <a:ext cx="43862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θ</m:t>
                    </m:r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 flipV="1">
            <a:off x="2362320" y="4952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7621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there are more than 1600 points in the phase space as the initi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 1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at the valu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is, write m points, say 50, to the data file. This mean we won’t consider whether it is a motion with period 50 or not, we still write 50 poi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50 points for period 1 motion; 50 points for period 2 motion; 50 points for period 64 motio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553080" y="2590920"/>
                <a:ext cx="492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: we can expect, the data file would be huge, in which there are so many redundant information where we don’t ne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reason why we use 50 points to represent a period 1 motion. In this case, 49 pairs of data are redund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 2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 the computer remembers the first written point     , then compare this value every time before writing another point to the data file. If a later val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is equal to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, stop the iteration and do anoth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057400" y="4267080"/>
                <a:ext cx="503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114800" y="29718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343400" y="4267080"/>
                <a:ext cx="453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572000" y="4724280"/>
                <a:ext cx="492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33720" y="2209680"/>
                <a:ext cx="52959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 flipV="1">
            <a:off x="2514600" y="2895480"/>
            <a:ext cx="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438280" y="28951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4572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value, arbit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2590560" y="2971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191120" y="28951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3429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657600" y="2895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486400" y="29714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257800" y="45720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4800600" y="50292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irst written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1629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00800" y="380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 iteration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781680" y="4114800"/>
                <a:ext cx="12574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8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thing mo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Remember that there 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h that there it is “period infinity”? So, we have to fix the maximum number of points to be written out for a partic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never equal 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because of the error. So, what we check really is whether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019920" y="2438280"/>
                <a:ext cx="5652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952880" y="3657600"/>
                <a:ext cx="422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803680" y="3929040"/>
                <a:ext cx="466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791320" y="3962520"/>
                <a:ext cx="4334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913200" y="4824360"/>
                <a:ext cx="24447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e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2438280" y="5486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t is so, we treat they are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sensitive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7086600" cy="5930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=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property of chaotic syst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tance between any two initial conditions in the phase space can be arbitrary after sufficient time for a chaotic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y of Chaotic System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erministic Vs. Rand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a fixed initial conditions, say of the pendulum motion, we can see that the motion is indeterminate. This means we cannot predict which way the system go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ometime says the motion i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ndo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However, this is not true actual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you noticed that the solution obtained by you and the other are the sam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motion is really random, this is not possible the your solution will identical to my solu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nother property of the chaotic systems we are studying. The motion is actuall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termin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equ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fore, sometime we say the chaos 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terministic chao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12:22:37Z</dcterms:created>
  <dc:creator>Leung Shing Yu</dc:creator>
  <dc:description/>
  <dc:language>en-US</dc:language>
  <cp:lastModifiedBy>Leung Shing Yu</cp:lastModifiedBy>
  <dcterms:modified xsi:type="dcterms:W3CDTF">2000-03-23T07:15:10Z</dcterms:modified>
  <cp:revision>9</cp:revision>
  <dc:subject/>
  <dc:title>Bifurcation Diagram of the Logistic Map</dc:title>
</cp:coreProperties>
</file>