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750-FFE9-4CD2-8E20-BC20F0F8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9B1-20EE-4E9C-B569-11F132E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7DA-E57A-4215-85B8-716AC775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F96-885B-41BF-9879-096DD66C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DB24-EBA6-4065-B8D5-B6CDF4B6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7442-1973-4865-B417-D4C95367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BB66-F3B0-42E2-A310-947294F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E5D0-E0AC-4376-8A2C-458DDDC7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BCDF-D6DB-4BCD-9A50-37B911EA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1E5-5F7A-40AC-9AF0-087EBD5E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5B88-32CD-4A15-AD68-F0A9A02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C6C-B2E5-4A02-95BC-9790FF86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36D9-1FFA-4C7B-ACA1-B22BA199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45B6-7B08-4879-A88C-05B577CE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74BD-2082-4C99-BB05-419353E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9C81-B378-42AB-A528-D6F1DCF3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386A-D6AD-4CAD-9062-EF410F82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1C6-78C9-4465-86D2-467257A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035-4407-4191-82B1-F5198845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E4C-55E8-4307-8B50-C44EB5CA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3DD-325A-4304-B235-1986592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A9F-94FE-4C2E-BDE6-47138147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F7D-3359-422F-8B16-8461E5D9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45C-1B4C-4C07-973B-7F9B90A3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0BF2-BD08-474D-AD9A-3AAD96E4B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8CF0-169E-4610-A8E7-16A3E87CB0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s and Fractal Dimen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 333 Tutorial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1-3-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Koch Curve: Cantor set 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truct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removing something from the original set. Koch curve 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truct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adding something to the original cur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2362320"/>
            <a:ext cx="1295640" cy="1143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953080" y="2010960"/>
            <a:ext cx="1636920" cy="1692720"/>
            <a:chOff x="2953080" y="2010960"/>
            <a:chExt cx="1636920" cy="1692720"/>
          </a:xfrm>
        </p:grpSpPr>
        <p:sp>
          <p:nvSpPr>
            <p:cNvPr id="143" name=""/>
            <p:cNvSpPr/>
            <p:nvPr/>
          </p:nvSpPr>
          <p:spPr>
            <a:xfrm>
              <a:off x="2971800" y="2209680"/>
              <a:ext cx="1295280" cy="1143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3603600">
              <a:off x="3123720" y="2285640"/>
              <a:ext cx="1295280" cy="1143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781880" y="1935000"/>
            <a:ext cx="1636920" cy="1692720"/>
            <a:chOff x="4781880" y="1935000"/>
            <a:chExt cx="1636920" cy="1692720"/>
          </a:xfrm>
        </p:grpSpPr>
        <p:grpSp>
          <p:nvGrpSpPr>
            <p:cNvPr id="146" name=""/>
            <p:cNvGrpSpPr/>
            <p:nvPr/>
          </p:nvGrpSpPr>
          <p:grpSpPr>
            <a:xfrm>
              <a:off x="4781880" y="1935000"/>
              <a:ext cx="1636920" cy="1692720"/>
              <a:chOff x="4781880" y="1935000"/>
              <a:chExt cx="1636920" cy="1692720"/>
            </a:xfrm>
          </p:grpSpPr>
          <p:sp>
            <p:nvSpPr>
              <p:cNvPr id="147" name=""/>
              <p:cNvSpPr/>
              <p:nvPr/>
            </p:nvSpPr>
            <p:spPr>
              <a:xfrm>
                <a:off x="4800600" y="2133720"/>
                <a:ext cx="1295280" cy="1143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3603600">
                <a:off x="4952520" y="2209680"/>
                <a:ext cx="1295280" cy="1143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715000" y="2362320"/>
              <a:ext cx="380880" cy="38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2362320"/>
              <a:ext cx="380880" cy="38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7800" y="312444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3742200">
              <a:off x="5680080" y="2930760"/>
              <a:ext cx="449280" cy="379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3742200">
              <a:off x="4842000" y="2930760"/>
              <a:ext cx="449280" cy="379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798800">
              <a:off x="5257080" y="2286360"/>
              <a:ext cx="369720" cy="38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71600" y="3733920"/>
                <a:ext cx="604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331040" y="3657600"/>
                <a:ext cx="725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36760" y="380988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162400" y="3713040"/>
                <a:ext cx="644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400800" y="2590920"/>
                <a:ext cx="990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990720" y="441972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nial shape is called the Koch Flake, constructed by Helge von Koch in 1904. Finite area is having an infinite circum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area: the flake can be enclosed by a circle, say with radius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648160" y="3535200"/>
            <a:ext cx="1636920" cy="1692720"/>
            <a:chOff x="2648160" y="3535200"/>
            <a:chExt cx="1636920" cy="1692720"/>
          </a:xfrm>
        </p:grpSpPr>
        <p:grpSp>
          <p:nvGrpSpPr>
            <p:cNvPr id="164" name=""/>
            <p:cNvGrpSpPr/>
            <p:nvPr/>
          </p:nvGrpSpPr>
          <p:grpSpPr>
            <a:xfrm>
              <a:off x="2648160" y="3535200"/>
              <a:ext cx="1636920" cy="1692720"/>
              <a:chOff x="2648160" y="3535200"/>
              <a:chExt cx="1636920" cy="1692720"/>
            </a:xfrm>
          </p:grpSpPr>
          <p:sp>
            <p:nvSpPr>
              <p:cNvPr id="165" name=""/>
              <p:cNvSpPr/>
              <p:nvPr/>
            </p:nvSpPr>
            <p:spPr>
              <a:xfrm>
                <a:off x="2666880" y="3733920"/>
                <a:ext cx="1295280" cy="1143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3603600">
                <a:off x="2818800" y="3809880"/>
                <a:ext cx="1295280" cy="1143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581280" y="3962520"/>
              <a:ext cx="380880" cy="38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66880" y="3962520"/>
              <a:ext cx="380880" cy="38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4080" y="472464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3742200">
              <a:off x="3546360" y="4530960"/>
              <a:ext cx="449280" cy="379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3742200">
              <a:off x="2708280" y="4530960"/>
              <a:ext cx="449280" cy="379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798800">
              <a:off x="3123360" y="3886560"/>
              <a:ext cx="369720" cy="38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133720" y="3276720"/>
            <a:ext cx="236196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3962520"/>
                <a:ext cx="38098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200400" y="5791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inite circum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05120" y="2438280"/>
                <a:ext cx="5867280" cy="421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: what is the dimension of the Koch curve, one side of the boundary of the Koch flak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ion 1? But the infinite length curve is enclosed in the finite reg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ion 2? But it should be a curve o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eems that the dimension of the Koch curve is somewhere between 1 and 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: what is the length of the boundary between the ocean and the lan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: the answer is the same as that in the Koch curve: infin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fractal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Mandelbrot S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figure1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53337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lia S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figure2" descr=""/>
          <p:cNvPicPr/>
          <p:nvPr/>
        </p:nvPicPr>
        <p:blipFill>
          <a:blip r:embed="rId1"/>
          <a:stretch/>
        </p:blipFill>
        <p:spPr>
          <a:xfrm>
            <a:off x="2057400" y="2535120"/>
            <a:ext cx="57834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Properties of Fract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ructure of arbitrary small scales: no matter how close you are looking at, there are some shapes in the frac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elf-similar: the whole shape can be seen as the summation of several smaller copies of it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Non-integer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how can we give a definition of dimension to a fract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properties of this definition has to satisf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Original idea of dimension has to be inclu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Larger the value of the dimension, the fractal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v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a higher dimensional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read Chapter 4 in the boo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aos: Making a New Sc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is ob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fractal is composed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ies when the size of the measure is scaled-down by fact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he we define the  dimension to b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276720" y="4038480"/>
                <a:ext cx="25146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31240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388620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47242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37339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648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4648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257800" y="3429000"/>
                <a:ext cx="3048120" cy="26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523880" y="403848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49528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124080"/>
            <a:ext cx="205740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124080"/>
            <a:ext cx="205740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4114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1240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3124080"/>
            <a:ext cx="205740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114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1240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35812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46483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31240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352680" y="5181480"/>
                <a:ext cx="2286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943600" y="5181480"/>
                <a:ext cx="2514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800600" y="5943600"/>
                <a:ext cx="1886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505320" y="3124080"/>
            <a:ext cx="106668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1240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048120"/>
            <a:ext cx="4496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38098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38098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4572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572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4572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4572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1320" y="3352680"/>
                <a:ext cx="27302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362320" y="5029200"/>
                <a:ext cx="43765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838080" y="40384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791320" y="4114800"/>
                <a:ext cx="2730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838080" y="4724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4724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4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514600" y="4495680"/>
                <a:ext cx="38606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1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990720" y="3657600"/>
            <a:ext cx="2133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14800" y="312408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12408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50496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781680" y="3048120"/>
            <a:ext cx="990720" cy="609480"/>
            <a:chOff x="6781680" y="3048120"/>
            <a:chExt cx="990720" cy="609480"/>
          </a:xfrm>
        </p:grpSpPr>
        <p:sp>
          <p:nvSpPr>
            <p:cNvPr id="254" name=""/>
            <p:cNvSpPr/>
            <p:nvPr/>
          </p:nvSpPr>
          <p:spPr>
            <a:xfrm>
              <a:off x="6934320" y="32767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314840" y="342900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67480" y="3429000"/>
              <a:ext cx="15264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62920" y="365760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0120" y="365760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1680" y="3048120"/>
              <a:ext cx="15264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10280" y="3276720"/>
              <a:ext cx="15264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3505320"/>
              <a:ext cx="15264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791320" y="3048120"/>
            <a:ext cx="990000" cy="609480"/>
            <a:chOff x="5791320" y="3048120"/>
            <a:chExt cx="990000" cy="609480"/>
          </a:xfrm>
        </p:grpSpPr>
        <p:sp>
          <p:nvSpPr>
            <p:cNvPr id="263" name=""/>
            <p:cNvSpPr/>
            <p:nvPr/>
          </p:nvSpPr>
          <p:spPr>
            <a:xfrm flipH="1">
              <a:off x="6400800" y="3276720"/>
              <a:ext cx="228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6240" y="342900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943600" y="342900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248520" y="3657600"/>
              <a:ext cx="151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791320" y="3657600"/>
              <a:ext cx="151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29040" y="304812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01160" y="327672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400800" y="35053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5053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638680" y="4419720"/>
                <a:ext cx="27846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7620120" y="37339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37339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40384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772400" y="40384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-D in     :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D in     : 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-D in     : Pla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-D: Whole real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43400" y="2057400"/>
                <a:ext cx="3987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038480" y="2971800"/>
                <a:ext cx="47246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191120" y="4343400"/>
                <a:ext cx="4260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86400" y="5486400"/>
                <a:ext cx="2355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09680" y="1987560"/>
                <a:ext cx="641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09680" y="3200400"/>
                <a:ext cx="641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09680" y="4343400"/>
                <a:ext cx="641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 there are objects living in the real space having a non-integer dimension.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00200" y="3581280"/>
                <a:ext cx="6553080" cy="28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09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19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: what is the dimension of a lump of cott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: It depends on what’s your point of view: if you were far enough from the object, it would be a 0-D object; if you walked closer, it became 3-D object; if looked more closer, then it is a 1-D object. But, how about using a microscope to see the cotton, it returns to a 3-D object ag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e dimension of the object will depend on the relationship between it and the ob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there are some space for us to generalize the definition of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cal Fract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Cantor Se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752480" y="2590920"/>
                <a:ext cx="590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52480" y="3352680"/>
                <a:ext cx="6336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31960" y="4170240"/>
                <a:ext cx="6318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895480" y="3048120"/>
            <a:ext cx="4496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8098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8098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4572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4572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4572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5720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05120" y="4952880"/>
                <a:ext cx="312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711440" y="5735520"/>
                <a:ext cx="715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666880" y="50292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maining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us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infinite number of points with zero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inite number of poi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base 3 notation, a point with no 1 will belong to the Cantor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l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581280" y="3429000"/>
                <a:ext cx="556272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ength of the set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∴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: what is the dimension of the Cantor se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ion 0? But there are infinite many elements in the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ion 1? But the length of the set is z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eems that the Cantor set is having dimension somewhere between 0 and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5T23:10:15Z</dcterms:created>
  <dc:creator>Leung Shing Yu</dc:creator>
  <dc:description/>
  <dc:language>en-US</dc:language>
  <cp:lastModifiedBy>Leung Shing Yu</cp:lastModifiedBy>
  <dcterms:modified xsi:type="dcterms:W3CDTF">2000-03-30T09:34:09Z</dcterms:modified>
  <cp:revision>4</cp:revision>
  <dc:subject/>
  <dc:title>Fractals and Fractal Dimension</dc:title>
</cp:coreProperties>
</file>